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_rels/notesSlide7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8.xml.rels" ContentType="application/vnd.openxmlformats-package.relationships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7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3.png" ContentType="image/png"/>
  <Override PartName="/ppt/media/image29.jpeg" ContentType="image/jpeg"/>
  <Override PartName="/ppt/media/image11.jpeg" ContentType="image/jpeg"/>
  <Override PartName="/ppt/media/image9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33.jpeg" ContentType="image/jpeg"/>
  <Override PartName="/ppt/media/image25.gif" ContentType="image/gif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4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1EC9-8105-4F15-B329-A24AB126A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7A04-CF30-4556-BA3F-B81465237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040" y="5791320"/>
            <a:ext cx="264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EC55-59D5-4818-8522-B7B236629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09FB-D681-4F2A-AEF4-0E558ADEC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1627-AC76-434C-AFD0-721C39A1E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1E42-6838-4E41-A704-38A3ED424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CC3D-C904-4044-B9A8-755CB11AB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6172-0F23-4150-AE60-BF3499B3B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C08D-8A3F-46CB-A2BA-2CCF8075F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C812-61D7-4C2B-B26C-90E825EB9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9721-EFA9-4A64-BB38-799E4AF44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85AC-A146-4309-9000-F1C2479C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2099-EC48-4D24-A197-CD9C90F32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B008-BC6F-4121-9D4F-721F979C5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07BD-60E0-42D1-8FFF-311BBEA6E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BEBB-8E21-499D-869A-76195193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4DC3-5E56-4993-8414-1E9B8266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7CCD-75F4-423D-AE9D-828AE856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2F39-F12F-416B-B3D4-76A5076A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6BCD7-EFEE-494B-921F-2E64753C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729D-F52E-4B29-99B1-64486CBA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1E5C-E970-47DA-B149-B2B83441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D771-7C70-4B7E-93FC-1928CDE7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6A26-9D24-4B20-973B-7525CE2F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0296-995D-49AE-8331-0ACDAB78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3A5D-89F6-46E1-A7C1-C4EBD9A2D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2843-273F-440D-A400-935859B43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1FA1-B33D-48EB-AFEE-202F21EF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C11E-76FE-4465-A647-E82D99F8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9FB7-1A56-419F-AD1A-77FD9E4F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2902-5AA2-4496-A4C6-F7CFD82C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86D0-5053-46C7-BC35-D1B9DE78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EF35-7AAC-4425-8A81-6375D80E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8BFF-F100-4F0E-ABB7-60668DF7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Copyright 2009,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4FDE-B9B7-4E3D-8EAC-65F8F946F1D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AE19-5704-4155-8ACD-4F2DA70259A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6040" y="1941480"/>
            <a:ext cx="7772400" cy="160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ОС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 ИНТЕРНА МЕДИЦИНА СА НЕГОМ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1800"/>
            </a:br>
            <a:r>
              <a:rPr b="1" lang="sl-SI" sz="2800" spc="-1" strike="noStrike">
                <a:solidFill>
                  <a:srgbClr val="7030a0"/>
                </a:solidFill>
                <a:latin typeface="Arial"/>
              </a:rPr>
              <a:t>БОЛЕСТИ ХИПОФИЗЕ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СТРУМА, ТИРЕОИДИТИС</a:t>
            </a:r>
            <a:r>
              <a:rPr b="1" lang="sr-RS" sz="2800" spc="-1" strike="noStrike">
                <a:solidFill>
                  <a:srgbClr val="7030a0"/>
                </a:solidFill>
                <a:latin typeface="Arial"/>
                <a:ea typeface="Arial"/>
              </a:rPr>
              <a:t>И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, ТУМОРИ ШТИТАСТЕ ЖЛЕЗДЕ.</a:t>
            </a:r>
            <a:br>
              <a:rPr sz="2800"/>
            </a:br>
            <a:r>
              <a:rPr b="1" lang="sr-CS" sz="2800" spc="-1" strike="noStrike">
                <a:solidFill>
                  <a:srgbClr val="7030a0"/>
                </a:solidFill>
                <a:latin typeface="Arial"/>
                <a:ea typeface="Arial"/>
              </a:rPr>
              <a:t>ПАРАТИРЕОИДНЕ ЖЛЕЗДЕ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34960" y="4247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иолета Младенови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030a0"/>
                </a:solidFill>
                <a:latin typeface="Arial"/>
              </a:rPr>
              <a:t>БОЛЕСТИ АДЕНОХИПОФИЗ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04480" y="1337760"/>
            <a:ext cx="8939160" cy="513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Инсуфицијенција аденохипофиз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арцијална (изоловани дефицит хормона аденохипофизе - парцијални хипопитуитаризам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уна (панхипопитуитаризам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Тумори аденохипофиз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екреторни (функционални, доводе до хиперфункциј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Несекреторни (нефункционални, могу довести до хипофункциј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Hypopitaitarism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93840" y="1600200"/>
            <a:ext cx="8750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елимични или потпуни недостатак хормона аденохипофиз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екреција хормона хипофиз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Редослед хормонског испада у хипопитуитаризм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GH ►►FSH/LH ►► ТSH ►►АC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линичко испољавање зависи о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Брзине настан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Врсте хормона који недостај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RS" sz="2800" spc="-1" strike="noStrike">
                <a:solidFill>
                  <a:srgbClr val="7030a0"/>
                </a:solidFill>
                <a:latin typeface="Arial"/>
                <a:ea typeface="Arial"/>
              </a:rPr>
              <a:t>Узрок </a:t>
            </a:r>
            <a:r>
              <a:rPr b="1" i="1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hypopituitarism</a:t>
            </a:r>
            <a:r>
              <a:rPr b="1" i="1" lang="sr-RS" sz="2800" spc="-1" strike="noStrike">
                <a:solidFill>
                  <a:srgbClr val="7030a0"/>
                </a:solidFill>
                <a:latin typeface="Arial"/>
                <a:ea typeface="Arial"/>
              </a:rPr>
              <a:t>-а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sr-RS" sz="2800" spc="-1" strike="noStrike">
                <a:solidFill>
                  <a:srgbClr val="7030a0"/>
                </a:solidFill>
                <a:latin typeface="Arial"/>
                <a:ea typeface="Arial"/>
              </a:rPr>
              <a:t>у склопу других болести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72880" y="1600200"/>
            <a:ext cx="841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вреда глав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умор моз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перација моз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адиотерап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утоимуно запаљење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ypophysit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нфаркт 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heehan’s syndro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нфекција мозга 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ningit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uberculo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7030a0"/>
                </a:solidFill>
                <a:latin typeface="Arial"/>
                <a:ea typeface="Arial"/>
              </a:rPr>
              <a:t>СИМПТОМИ И ЗНАЦ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ypopituitaris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је често прогресиван. Симптоми и знаци се могу појавити изненада, обично се постепено развијаjу, варирају у зависности који од хормона недостаје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нека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у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ејас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и суптил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и м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г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се превидети месец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или чак година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!!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Главобољ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умор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иска толеранција стре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лабост мишић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учн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тво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Губитак тежине или добита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ад апети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</a:rPr>
              <a:t>Диабетес инсипиду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0" y="995400"/>
            <a:ext cx="91440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ремећај концентрисања урина због недостатка стварања и/или ефеката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ADH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оји доводи до стварања велике запремине урина ниске осмоларности. Ko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д ИД је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мањена способност концентрисања урин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1. 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поталамусни (централни) ти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ефрогени (периферни) тип: неосетљивост бубрежних каналића на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AD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1f497d"/>
                </a:solidFill>
                <a:latin typeface="Arial"/>
                <a:ea typeface="Arial"/>
              </a:rPr>
              <a:t>Епидемиолог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ретко обољење, преваленца 1:250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1f497d"/>
                </a:solidFill>
                <a:latin typeface="Arial"/>
                <a:ea typeface="Arial"/>
              </a:rPr>
              <a:t>Етиопатогене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конгенитални, ид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ски, тумори, инфекције, траума, зрачење, инфламациј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375e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</a:rPr>
              <a:t>Диабетес инсипиду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0" y="887040"/>
            <a:ext cx="914400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1f497d"/>
                </a:solidFill>
                <a:latin typeface="Arial"/>
                <a:ea typeface="Arial"/>
              </a:rPr>
              <a:t>Клиничка слика: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лиурија (5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20 л/дан), никтурија, урин светле боје, полидипсија, хипертона дехидратација (хиперосмоларност, хипернатриемија) уз хипоосмоларни ур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1f497d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1f497d"/>
                </a:solidFill>
                <a:latin typeface="Arial"/>
                <a:ea typeface="Arial"/>
              </a:rPr>
              <a:t>Дијагноз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Базалн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смањена специфична тежина (&lt;1010) 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осмоларност (&lt;290мОсм) урина; повећана осмоларност плазм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Диференцијална дијагноз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: психогена полидипс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инамски тестов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Тест дехидратациј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(жеђањ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орфолошка дијагности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Ртг селе турцике, ЦТ и НМР селарне рег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1f497d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1f497d"/>
                </a:solidFill>
                <a:latin typeface="Arial"/>
                <a:ea typeface="Arial"/>
              </a:rPr>
              <a:t>Терапиј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niri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езмопресин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DDVP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интраназално 10-20 мцг два пута дневно или с.ц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1-4 мцг днев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пер ос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Хлорпропамид 200-500 мг дневно и карбамазепин 400-600 мг дневно (за блаже облике – парцијални дефици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иазидни диуретици (за перифер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нефроге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тип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030a0"/>
                </a:solidFill>
                <a:latin typeface="Arial"/>
              </a:rPr>
              <a:t>ТУМОРИ АДЕНОХИПОФИЗ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63440" y="1447920"/>
            <a:ext cx="898056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Најчешћи узроци хипо и хиперпитуитариз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Чине око 10% интракранијалних неоплаз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Могу бити микро (&lt;10мм) и макроаденоми (&gt;10мм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Моноклоналног порекла, аутономне секрециј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ојединачни хормони: </a:t>
            </a:r>
            <a:r>
              <a:rPr b="0" i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PRL, GH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TH</a:t>
            </a:r>
            <a:r>
              <a:rPr b="0" i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, TSH, LH, FS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лурихормонална секреција: комбинација </a:t>
            </a:r>
            <a:r>
              <a:rPr b="1" i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PRL, GH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TH</a:t>
            </a:r>
            <a:r>
              <a:rPr b="1" i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, TS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Делови хормона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 гликопротеин (субјединиц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Неактив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ефункцијски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умор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одел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 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  <a:ea typeface="Arial"/>
              </a:rPr>
              <a:t>Спорадич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или  у 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  <a:ea typeface="Arial"/>
              </a:rPr>
              <a:t>оквиру генетских синдр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  <a:ea typeface="Arial"/>
              </a:rPr>
              <a:t>1: ген МЕНИН (Ту хипофизе, паратироидеа, острвца панкреас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ДИСФУНКЦИЈА АДЕНОХИПОФИ</a:t>
            </a:r>
            <a:r>
              <a:rPr b="1" lang="sr-Latn-CS" sz="3200" spc="-1" strike="noStrike">
                <a:solidFill>
                  <a:srgbClr val="7030a0"/>
                </a:solidFill>
                <a:latin typeface="Arial"/>
              </a:rPr>
              <a:t>З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44080" y="1268280"/>
            <a:ext cx="875844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ХИПЕРФУНК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SH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H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ubertas praeco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H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yperthyreosis sec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олактин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yperprolactinem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H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omegalia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igantism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TH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ypercorticismus sec.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(М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ushing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Arial"/>
              </a:rPr>
              <a:t>Hyperprolactinemia</a:t>
            </a:r>
            <a:r>
              <a:rPr b="1" i="1" lang="sr-Latn-CS" sz="32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0" y="1490400"/>
            <a:ext cx="914400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вишен ниво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PRL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у крв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r>
              <a:rPr b="1" lang="sr-Latn-CS" sz="2000" spc="-1" strike="noStrike">
                <a:solidFill>
                  <a:srgbClr val="1f497d"/>
                </a:solidFill>
                <a:latin typeface="Arial"/>
                <a:ea typeface="Arial"/>
              </a:rPr>
              <a:t>Етиолошка подел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деном ћелија хипофизе које продукују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PRL</a:t>
            </a:r>
            <a:r>
              <a:rPr b="0" i="1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(пролактином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Остало: Вишак естрогена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римарна хипотиреоза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хронична ренална инсуфицијен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r>
              <a:rPr b="1" lang="sr-Latn-CS" sz="2000" spc="-1" strike="noStrike">
                <a:solidFill>
                  <a:srgbClr val="1f497d"/>
                </a:solidFill>
                <a:latin typeface="Arial"/>
                <a:ea typeface="Arial"/>
              </a:rPr>
              <a:t>Епидемиолог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пролактином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100000,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ж:м - 20: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1" lang="sr-RS" sz="2000" spc="-1" strike="noStrike">
                <a:solidFill>
                  <a:srgbClr val="1f497d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1f497d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1f497d"/>
                </a:solidFill>
                <a:latin typeface="Arial"/>
                <a:ea typeface="Arial"/>
              </a:rPr>
              <a:t>Клиничка слика</a:t>
            </a:r>
            <a:r>
              <a:rPr b="0" lang="sr-Latn-CS" sz="2000" spc="-1" strike="noStrike">
                <a:solidFill>
                  <a:srgbClr val="1f497d"/>
                </a:solidFill>
                <a:latin typeface="Arial"/>
                <a:ea typeface="Arial"/>
              </a:rPr>
              <a:t>: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главобоље, поремећај видног пољ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0000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Arial"/>
              </a:rPr>
              <a:t>♀</a:t>
            </a:r>
            <a:r>
              <a:rPr b="1" lang="sr-RS" sz="20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поремећај менструације (олиго до аменореја), инфертилитет, галакторе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558ed5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558ed5"/>
                </a:solidFill>
                <a:latin typeface="Arial"/>
                <a:ea typeface="Arial"/>
              </a:rPr>
              <a:t>♂</a:t>
            </a:r>
            <a:r>
              <a:rPr b="1" lang="sr-RS" sz="2000" spc="-1" strike="noStrike">
                <a:solidFill>
                  <a:srgbClr val="558ed5"/>
                </a:solidFill>
                <a:latin typeface="Arial"/>
                <a:ea typeface="Arial"/>
              </a:rPr>
              <a:t>: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ремећај либида и сексуална дисфунк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8ed5"/>
                </a:solidFill>
                <a:latin typeface="Arial"/>
                <a:ea typeface="Arial"/>
              </a:rPr>
              <a:t>    </a:t>
            </a:r>
            <a:r>
              <a:rPr b="1" lang="sr-RS" sz="2000" spc="-1" strike="noStrike">
                <a:solidFill>
                  <a:srgbClr val="558ed5"/>
                </a:solidFill>
                <a:latin typeface="Arial"/>
                <a:ea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</a:rPr>
              <a:t>Хиперпрола</a:t>
            </a:r>
            <a:r>
              <a:rPr b="1" lang="sr-CS" sz="3200" spc="-1" strike="noStrike">
                <a:solidFill>
                  <a:srgbClr val="7030a0"/>
                </a:solidFill>
                <a:latin typeface="Arial"/>
              </a:rPr>
              <a:t>к</a:t>
            </a:r>
            <a:r>
              <a:rPr b="1" lang="sr-Latn-CS" sz="3200" spc="-1" strike="noStrike">
                <a:solidFill>
                  <a:srgbClr val="7030a0"/>
                </a:solidFill>
                <a:latin typeface="Arial"/>
              </a:rPr>
              <a:t>тинеми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j</a:t>
            </a:r>
            <a:r>
              <a:rPr b="1" lang="sr-Latn-CS" sz="3200" spc="-1" strike="noStrike">
                <a:solidFill>
                  <a:srgbClr val="7030a0"/>
                </a:solidFill>
                <a:latin typeface="Arial"/>
              </a:rPr>
              <a:t>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1044720"/>
            <a:ext cx="9144000" cy="53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1f497d"/>
                </a:solidFill>
                <a:latin typeface="Arial"/>
                <a:ea typeface="Arial"/>
              </a:rPr>
              <a:t>Дијагноз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Базалн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одређивање нивоа ПРЛ у дневном профилу (неколико дана мора да буде без лекова који могу довести д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↑ПРЛ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lometol, ranitidin, neurolepti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, пласира браунила, одређује се у 8, 11 и 1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орфолошка дијагности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НМР хипофиз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(ЦТ је мање сензитиван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1f497d"/>
                </a:solidFill>
                <a:latin typeface="Arial"/>
                <a:ea typeface="Arial"/>
              </a:rPr>
              <a:t>Терап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опаминергици дугог дејства, лечење око 4 годи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Бромокрипти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(за време оброка, постепе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1.25 мг/дан, максимално15мг/дан (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-3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дозе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епо препарат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rloder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R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) на 4 недељ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stinex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арбеголин (0,5 до 1,0мг, два пута недељно) има добру подношљиво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Остало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Quinagolide, Pergolide, Lisur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1680" y="537840"/>
            <a:ext cx="844236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Ендокрини систем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ља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комплексни систем који одржа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табилном унутрашњу средину упркос потенцијалним поремећај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 који долазе било из спољне било из унутрашње среди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C:\Users\Violeta\Desktop\Endocrine-Glands-Diagram.jpg"/>
          <p:cNvPicPr/>
          <p:nvPr/>
        </p:nvPicPr>
        <p:blipFill>
          <a:blip r:embed="rId1"/>
          <a:stretch/>
        </p:blipFill>
        <p:spPr>
          <a:xfrm>
            <a:off x="1055520" y="2567160"/>
            <a:ext cx="6780240" cy="3876480"/>
          </a:xfrm>
          <a:prstGeom prst="rect">
            <a:avLst/>
          </a:prstGeom>
          <a:ln w="9360">
            <a:solidFill>
              <a:srgbClr val="558ed5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7030a0"/>
                </a:solidFill>
                <a:latin typeface="Arial"/>
              </a:rPr>
              <a:t>М</a:t>
            </a:r>
            <a:r>
              <a:rPr b="1" i="1" lang="en-US" sz="3200" spc="-1" strike="noStrike">
                <a:solidFill>
                  <a:srgbClr val="7030a0"/>
                </a:solidFill>
                <a:latin typeface="Arial"/>
              </a:rPr>
              <a:t>orbus Cushing</a:t>
            </a:r>
            <a:r>
              <a:rPr b="1" lang="sr-Latn-CS" sz="32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0" y="1191960"/>
            <a:ext cx="894888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деном кортикотропних ћелија аденохипофизе који доводи до повећане продукциј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 последичног хиперкортицизма (ређе ектопична секрециј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H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)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1f497d"/>
                </a:solidFill>
                <a:latin typeface="Arial"/>
                <a:ea typeface="Arial"/>
              </a:rPr>
              <a:t>Епидемиолог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узрок 70% од свих случајева хиперкортицизм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10-15% свих тумора хипофиз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r>
              <a:rPr b="1" lang="sr-Latn-CS" sz="2000" spc="-1" strike="noStrike">
                <a:solidFill>
                  <a:srgbClr val="1f497d"/>
                </a:solidFill>
                <a:latin typeface="Arial"/>
                <a:ea typeface="Arial"/>
              </a:rPr>
              <a:t>Етиопатогене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моноклонално порекло тумо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7030a0"/>
                </a:solidFill>
                <a:latin typeface="Arial"/>
              </a:rPr>
              <a:t>М</a:t>
            </a:r>
            <a:r>
              <a:rPr b="1" i="1" lang="en-US" sz="3600" spc="-1" strike="noStrike">
                <a:solidFill>
                  <a:srgbClr val="7030a0"/>
                </a:solidFill>
                <a:latin typeface="Arial"/>
              </a:rPr>
              <a:t>orbus Cush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473040" y="691920"/>
            <a:ext cx="961704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ушингоидан аспек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центрипетална гојазност: специфични депои масти: 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ffalo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” торзо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cies lun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Репродуктивни систе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поремећаји 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Ц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, губитак либида, акне, хипогонадизам (инхибиторни ефекат ГК на пулзатилност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nRH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сихичке проме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агитирана депресија, летаргија, параноја, меморисјка и ког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дисфункција, несаниц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ост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остеопороза, успорен линеарни раст код де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ож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истањена, љубичасте стрије, модрице, пурпура, акне, хирзутизам, плеторично ли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ишић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слабост проксималне мускулатуре ног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ардиоваскуларни поремећај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ХТ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(75% оболелих), склоност тромбоемболизм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етаболичке/ендокрине проме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GT, HL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Оч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Глауком, егзофталмос, хемозе и катара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7030a0"/>
                </a:solidFill>
                <a:latin typeface="Arial"/>
              </a:rPr>
              <a:t>М</a:t>
            </a:r>
            <a:r>
              <a:rPr b="1" i="1" lang="en-US" sz="3200" spc="-1" strike="noStrike">
                <a:solidFill>
                  <a:srgbClr val="7030a0"/>
                </a:solidFill>
                <a:latin typeface="Arial"/>
              </a:rPr>
              <a:t>orbus C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941040"/>
            <a:ext cx="9144000" cy="54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1" lang="sr-Latn-CS" sz="2000" spc="-1" strike="noStrike">
                <a:solidFill>
                  <a:srgbClr val="1f497d"/>
                </a:solidFill>
                <a:latin typeface="Arial"/>
                <a:ea typeface="Arial"/>
              </a:rPr>
              <a:t>Дијагно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Базалн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e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кортизол у 24-часовном урин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F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невни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офил кортизо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инамски тестов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упресиони тест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X screening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(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g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скодозажни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EX I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(0,5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g/6h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оком 2 дана) 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високодозажн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X II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(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g/6h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оком 2 дана)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орфолошка дијагности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НМР хипофиз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1f497d"/>
                </a:solidFill>
                <a:latin typeface="Arial"/>
                <a:ea typeface="Arial"/>
              </a:rPr>
              <a:t>Терап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рансфеноидално одклањање аденома хипофиз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Т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(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mma knif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У случају неуспеха и рецидива, билатерална адреналектомија (повећан ризик од 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lso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-овог” тумо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аљи раст аденом хипофизе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F:\slike predavanja\01.jpg"/>
          <p:cNvPicPr/>
          <p:nvPr/>
        </p:nvPicPr>
        <p:blipFill>
          <a:blip r:embed="rId1"/>
          <a:stretch/>
        </p:blipFill>
        <p:spPr>
          <a:xfrm>
            <a:off x="609480" y="457200"/>
            <a:ext cx="3810240" cy="3595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F:\slike predavanja\02.jpg"/>
          <p:cNvPicPr/>
          <p:nvPr/>
        </p:nvPicPr>
        <p:blipFill>
          <a:blip r:embed="rId2"/>
          <a:stretch/>
        </p:blipFill>
        <p:spPr>
          <a:xfrm>
            <a:off x="4419720" y="3479760"/>
            <a:ext cx="4047840" cy="290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hypotumoren_cushing1"/>
          <p:cNvPicPr/>
          <p:nvPr/>
        </p:nvPicPr>
        <p:blipFill>
          <a:blip r:embed="rId1"/>
          <a:stretch/>
        </p:blipFill>
        <p:spPr>
          <a:xfrm>
            <a:off x="347760" y="447840"/>
            <a:ext cx="2971800" cy="4924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hypotumoren_cushing2"/>
          <p:cNvPicPr/>
          <p:nvPr/>
        </p:nvPicPr>
        <p:blipFill>
          <a:blip r:embed="rId2"/>
          <a:stretch/>
        </p:blipFill>
        <p:spPr>
          <a:xfrm>
            <a:off x="3247920" y="755640"/>
            <a:ext cx="2716200" cy="4218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hypotumoren_cushing3"/>
          <p:cNvPicPr/>
          <p:nvPr/>
        </p:nvPicPr>
        <p:blipFill>
          <a:blip r:embed="rId3"/>
          <a:stretch/>
        </p:blipFill>
        <p:spPr>
          <a:xfrm>
            <a:off x="5978520" y="1409760"/>
            <a:ext cx="2530440" cy="263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7030a0"/>
                </a:solidFill>
                <a:latin typeface="Arial"/>
              </a:rPr>
              <a:t>Гигантизам и </a:t>
            </a: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а</a:t>
            </a:r>
            <a:r>
              <a:rPr b="1" lang="sr-Latn-CS" sz="3600" spc="-1" strike="noStrike">
                <a:solidFill>
                  <a:srgbClr val="7030a0"/>
                </a:solidFill>
                <a:latin typeface="Arial"/>
              </a:rPr>
              <a:t>кромегали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36160" y="1044720"/>
            <a:ext cx="8907480" cy="53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кромегал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је болест која настаје као последица хиперсекрециј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H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код одраслих (након затварања епифизеалних пукотина), 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Гигантиза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је последица хиперсекрециј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H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код младих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r>
              <a:rPr b="1" lang="sr-Latn-CS" sz="2000" spc="-1" strike="noStrike">
                <a:solidFill>
                  <a:srgbClr val="1f497d"/>
                </a:solidFill>
                <a:latin typeface="Arial"/>
                <a:ea typeface="Arial"/>
              </a:rPr>
              <a:t>Епидемиолог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еваленциј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0/1000000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становника, инциденција 3-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/1000000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1f497d"/>
                </a:solidFill>
                <a:latin typeface="Arial"/>
                <a:ea typeface="Arial"/>
              </a:rPr>
              <a:t>Етио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лог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деном хипофизе (99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Ектопична секрециј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HRH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(&lt;1%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Non-pituitary tumour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етко, акромегалија је узрокована туморима панкреаса, плућа и надбубрежних жлезда, који доводе до вишк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</a:rPr>
              <a:t>Гигантизам и 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а</a:t>
            </a:r>
            <a:r>
              <a:rPr b="1" lang="sr-Latn-CS" sz="3200" spc="-1" strike="noStrike">
                <a:solidFill>
                  <a:srgbClr val="7030a0"/>
                </a:solidFill>
                <a:latin typeface="Arial"/>
              </a:rPr>
              <a:t>кромегал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20680" y="1044720"/>
            <a:ext cx="8623440" cy="53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астаје као последица секрец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GH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оком детињ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 пубертету се затварају епифизне пукотине и дуге кости остају неосетљиве на дејств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GH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Шаке, стопала и кости лица остају осетљиве и после пубертета, тако да настављају да расту и доводе до настанка специфичног хабиту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1f497d"/>
                </a:solidFill>
                <a:latin typeface="Arial"/>
                <a:ea typeface="Arial"/>
              </a:rPr>
              <a:t>Клиничка слика:</a:t>
            </a: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Знаци и симптоми се споро развијај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Клинички инапарентан ток у дужем пери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бично се дијагностикује након 10 година трајања боле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омена облика лиц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аглашени супраорбитални луков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аст носа и ушиј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</a:rPr>
              <a:t>Акромегал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67840" y="1044720"/>
            <a:ext cx="8875800" cy="53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кромегаличан аспек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асна и груба кожа лиц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зражени набори изнад очију (фронтални синуси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стурена доња вил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прогнација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оширени интердентални простор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дијастема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акроглосиј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убок глас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јачано знојењ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ртропатиј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увећање акралних делова тела (нос, уши, стопала, шаке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задебљање дисталних фаланг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етаболички поремећај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M2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руго: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H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Терапија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а</a:t>
            </a:r>
            <a:r>
              <a:rPr b="1" lang="sr-Latn-CS" sz="3200" spc="-1" strike="noStrike">
                <a:solidFill>
                  <a:srgbClr val="7030a0"/>
                </a:solidFill>
                <a:latin typeface="Arial"/>
              </a:rPr>
              <a:t>кромегалиј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68200" y="1387080"/>
            <a:ext cx="859176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циљ је нормализација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IGF-1/GH,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уклањање тумора и очување резерве осталих хормона аденохипофиз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Хируршки: трансфеноидална екстирпација тумо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ремисија у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44 – 76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80% микроаденома, 40% макраденома), КИ код коморбидитета, ниво хормона се најчешће не врати у нормал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Радиотерапија (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mma knif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”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 спор ефекат, хипопитуитаризам у</a:t>
            </a: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&gt;60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%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штећење очног нерва, ризик од сек. малигнит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едикаментно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уготрајни аналози соматостати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октреотид (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40мг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.м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а 4 недеље) и лантреоти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друга линија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агонисти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Бромкрипти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GH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тагонист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pegvisoman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s12c151photo01"/>
          <p:cNvPicPr/>
          <p:nvPr/>
        </p:nvPicPr>
        <p:blipFill>
          <a:blip r:embed="rId1"/>
          <a:stretch/>
        </p:blipFill>
        <p:spPr>
          <a:xfrm>
            <a:off x="250920" y="765000"/>
            <a:ext cx="4032000" cy="2311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s12c151photo02"/>
          <p:cNvPicPr/>
          <p:nvPr/>
        </p:nvPicPr>
        <p:blipFill>
          <a:blip r:embed="rId2"/>
          <a:stretch/>
        </p:blipFill>
        <p:spPr>
          <a:xfrm>
            <a:off x="4932360" y="878040"/>
            <a:ext cx="3419640" cy="2550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acromeg1"/>
          <p:cNvPicPr/>
          <p:nvPr/>
        </p:nvPicPr>
        <p:blipFill>
          <a:blip r:embed="rId3"/>
          <a:stretch/>
        </p:blipFill>
        <p:spPr>
          <a:xfrm>
            <a:off x="949320" y="4084560"/>
            <a:ext cx="3052800" cy="18860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acromeg2"/>
          <p:cNvPicPr/>
          <p:nvPr/>
        </p:nvPicPr>
        <p:blipFill>
          <a:blip r:embed="rId4"/>
          <a:stretch/>
        </p:blipFill>
        <p:spPr>
          <a:xfrm>
            <a:off x="5154480" y="3927600"/>
            <a:ext cx="3025800" cy="219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195480" y="0"/>
            <a:ext cx="9491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CS" sz="3200" spc="-1" strike="noStrike">
                <a:solidFill>
                  <a:srgbClr val="7030a0"/>
                </a:solidFill>
                <a:latin typeface="Arial"/>
                <a:ea typeface="Arial"/>
              </a:rPr>
              <a:t>ПОРЕМЕЋАЈИ ЕНДОКРИНОГ СИСТЕ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727200" y="1454040"/>
            <a:ext cx="3260520" cy="703800"/>
          </a:xfrm>
          <a:prstGeom prst="rect">
            <a:avLst/>
          </a:prstGeom>
          <a:solidFill>
            <a:srgbClr val="dce6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РЕМЕЋАЈИ МОРФОЛОГ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209600" y="4952880"/>
            <a:ext cx="3667320" cy="178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гене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ктоп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троф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ипотрофиј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185840" y="4400640"/>
            <a:ext cx="3691080" cy="39888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измењена морфолог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198440" y="2590920"/>
            <a:ext cx="3678480" cy="163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ипертоф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иперпла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оплазија (бенигна или малиг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124600" y="1476360"/>
            <a:ext cx="3260520" cy="703800"/>
          </a:xfrm>
          <a:prstGeom prst="rect">
            <a:avLst/>
          </a:prstGeom>
          <a:solidFill>
            <a:srgbClr val="dce6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РЕМЕЋАЈИ        ФУНК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5748480" y="2813040"/>
            <a:ext cx="2522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Arial"/>
              </a:rPr>
              <a:t>Хиперфунк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5789520" y="4352760"/>
            <a:ext cx="2522520" cy="39888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ормофунк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5869080" y="5619600"/>
            <a:ext cx="2522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Arial"/>
              </a:rPr>
              <a:t>Хипофунк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847800" y="2103480"/>
            <a:ext cx="0" cy="375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5340240" y="21430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"/>
          <p:cNvSpPr/>
          <p:nvPr/>
        </p:nvSpPr>
        <p:spPr>
          <a:xfrm>
            <a:off x="825480" y="3382920"/>
            <a:ext cx="363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836640" y="4572000"/>
            <a:ext cx="352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5"/>
          <p:cNvSpPr/>
          <p:nvPr/>
        </p:nvSpPr>
        <p:spPr>
          <a:xfrm>
            <a:off x="846000" y="5850000"/>
            <a:ext cx="363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5332320" y="2986200"/>
            <a:ext cx="385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7"/>
          <p:cNvSpPr/>
          <p:nvPr/>
        </p:nvSpPr>
        <p:spPr>
          <a:xfrm>
            <a:off x="5343480" y="4572000"/>
            <a:ext cx="43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8"/>
          <p:cNvSpPr/>
          <p:nvPr/>
        </p:nvSpPr>
        <p:spPr>
          <a:xfrm>
            <a:off x="5332320" y="5783400"/>
            <a:ext cx="528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7030a0"/>
                </a:solidFill>
                <a:latin typeface="Arial"/>
                <a:ea typeface="Arial"/>
              </a:rPr>
              <a:t>Тироидна жлез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мештена испод и испред ларинк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ма два лобуса повезаних истмус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ои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ф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лику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пр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зво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ироидне хормо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н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тетр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до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онин (Т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р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до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онин (Т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Оба повећавају интезитет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Б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, стимулишу синтезу протеина,повећавају употребу гликозе и масних киселина за продукцију АТП-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арафол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улар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ћел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Ц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-ћел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оизво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лцитон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мању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у крви тако што инхибира реапсорпцију костиј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4" descr="F:\slike predavanja\1.png"/>
          <p:cNvPicPr/>
          <p:nvPr/>
        </p:nvPicPr>
        <p:blipFill>
          <a:blip r:embed="rId1"/>
          <a:stretch/>
        </p:blipFill>
        <p:spPr>
          <a:xfrm>
            <a:off x="6858000" y="457200"/>
            <a:ext cx="2168640" cy="26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БОЛЕСТИ ШТИТАСТЕ ЖЛЕЗ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оремећаји морфолог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генезија, аплазија, хипоплазија и ектоп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трум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Дифузна стру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Нодозна струма (уни и полинодозн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оремећаји функ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Хиперфунки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Хипофунк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Запаље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кут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убакут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Хронич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СТРУ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560" y="129528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ТРУМА (гушавост) је увећање штитасте жлезд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дел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ифуз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одуларна (уни или мултинодуларн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Етиологиј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ефекти у биосинтези хормо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ефицит јо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Запаљења (акутна, субакутна и хроничн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умори штитасте жлезд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5" descr="D:\Documents and Settings\Users\Violeta Mladenovic\Desktop\STRUMA\imagesDVGDMBPZ.jpg"/>
          <p:cNvPicPr/>
          <p:nvPr/>
        </p:nvPicPr>
        <p:blipFill>
          <a:blip r:embed="rId2"/>
          <a:stretch/>
        </p:blipFill>
        <p:spPr>
          <a:xfrm>
            <a:off x="7315200" y="4648320"/>
            <a:ext cx="1371600" cy="188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STRUMA DIFUSA SIMPL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већање штитасте жлезде у целини уз одсуство нодуса при чему је функција штитасте жлезде нормал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Епидемиолог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око 10% популације, однос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ж:м=8: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де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Ендемс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&gt;10% становништва има струму, подручја са недовољном количином Ј (дневне потребе су 100-150µг јод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е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емс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обично непознатог узрока)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биохемијски поремећаји у синтези тироидних хормона (транспорт јода, синтеза ТГ, органификација Ј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експозиција струмогенима (нпр. тиоцијанати из поврћа - купус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5" descr="D:\Documents and Settings\Users\Violeta Mladenovic\Desktop\STRUMA\imagesLGCOK62Z.jpg"/>
          <p:cNvPicPr/>
          <p:nvPr/>
        </p:nvPicPr>
        <p:blipFill>
          <a:blip r:embed="rId1"/>
          <a:stretch/>
        </p:blipFill>
        <p:spPr>
          <a:xfrm>
            <a:off x="5943600" y="5187960"/>
            <a:ext cx="3200400" cy="16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STRUMA NODOSA (uninodosa, pol</a:t>
            </a:r>
            <a:r>
              <a:rPr b="1" i="1" lang="sr-CS" sz="3200" spc="-1" strike="noStrike">
                <a:solidFill>
                  <a:srgbClr val="7030a0"/>
                </a:solidFill>
                <a:latin typeface="Arial"/>
                <a:ea typeface="Arial"/>
              </a:rPr>
              <a:t>i</a:t>
            </a:r>
            <a:r>
              <a:rPr b="1" i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nodos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0" y="9144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исуство локализованог увећања ткива штитасте жлезде обично праћена еуметаболизмом (ређе хипер- или хипометаболизам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атоанатомс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тумори (моноклонско увећање), хиперцелуларност и/или цистична трансформација, хеморагије, фибро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Епидемиолог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до 12% популације, чешће код жен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нциденца расте са годинама стар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4" descr="D:\Documents and Settings\Users\Violeta Mladenovic\Desktop\STRUMA\imagesRBOKJWUB.jpg"/>
          <p:cNvPicPr/>
          <p:nvPr/>
        </p:nvPicPr>
        <p:blipFill>
          <a:blip r:embed="rId1"/>
          <a:stretch/>
        </p:blipFill>
        <p:spPr>
          <a:xfrm>
            <a:off x="5943600" y="4419720"/>
            <a:ext cx="2590920" cy="1857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D:\Documents and Settings\Users\Violeta Mladenovic\Desktop\STRUMA\imagesWPBCTOVS.jpg"/>
          <p:cNvPicPr/>
          <p:nvPr/>
        </p:nvPicPr>
        <p:blipFill>
          <a:blip r:embed="rId2"/>
          <a:stretch/>
        </p:blipFill>
        <p:spPr>
          <a:xfrm>
            <a:off x="380880" y="4191120"/>
            <a:ext cx="1819440" cy="25048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D:\Documents and Settings\Users\Violeta Mladenovic\Desktop\STRUMA\STR.png"/>
          <p:cNvPicPr/>
          <p:nvPr/>
        </p:nvPicPr>
        <p:blipFill>
          <a:blip r:embed="rId3"/>
          <a:stretch/>
        </p:blipFill>
        <p:spPr>
          <a:xfrm>
            <a:off x="2743200" y="4419720"/>
            <a:ext cx="2457360" cy="18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ТИРЕОИДИТИСИ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: </a:t>
            </a: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Акутни тиреоидити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Ретко, супуративно запаље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Узрочници: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бактерије, гљивице, радијација након примене Ј131, лекови (амиодарон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Бол, црвенило и оток у пределу штитасте жлезде, дисфагија, повишена температура и други системски знаци инфекције, позитиван биохуморални синдром запаљења, лимфаденопат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ерапиј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захтева примену антибиотика и хируршки третма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4" descr="D:\Documents and Settings\Users\Violeta Mladenovic\Desktop\STRUMA\images7JRGBXZK.jpg"/>
          <p:cNvPicPr/>
          <p:nvPr/>
        </p:nvPicPr>
        <p:blipFill>
          <a:blip r:embed="rId1"/>
          <a:stretch/>
        </p:blipFill>
        <p:spPr>
          <a:xfrm>
            <a:off x="7086600" y="4800600"/>
            <a:ext cx="1752480" cy="18842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C:\Users\Violeta\Desktop\imagesC4IMR09B.jpg"/>
          <p:cNvPicPr/>
          <p:nvPr/>
        </p:nvPicPr>
        <p:blipFill>
          <a:blip r:embed="rId2"/>
          <a:stretch/>
        </p:blipFill>
        <p:spPr>
          <a:xfrm>
            <a:off x="380880" y="464832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D:\Documents and Settings\Users\Violeta Mladenovic\Desktop\STRUMA\imagesCVTOOJZT.jpg"/>
          <p:cNvPicPr/>
          <p:nvPr/>
        </p:nvPicPr>
        <p:blipFill>
          <a:blip r:embed="rId3"/>
          <a:stretch/>
        </p:blipFill>
        <p:spPr>
          <a:xfrm>
            <a:off x="3687840" y="4670280"/>
            <a:ext cx="2468520" cy="21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Субакутни тиреоидитис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(</a:t>
            </a:r>
            <a:r>
              <a:rPr b="1" i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de </a:t>
            </a:r>
            <a:r>
              <a:rPr b="1" i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Quervain</a:t>
            </a: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Грануломатозно запаљење штитасте жлезде изазвано вируси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(мумпс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окс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и, инфлуе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ц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, адено- и еховирус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Болест траје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3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месец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ницијална фаза (тиреотоксикоза): иницијално деструкција фоликула (уз ослобађање ТГ, Т3 и Т4  и пораст њихове концентрације у плазми – хипертироксинемија),  фаза опоравка уз развој транзиторне хипотиреоз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линичка сли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Нагло или постепено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грирајући бол у врату, повишена температура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стемски знаци инфекције, иницијално знаци хипертироксинемије (убрзан рад срца, презнојавање, мршављење, малаксалост), затим хипотиреоз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ијагно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Позитиван биохуморални синдром запаљења (СЕ, ЦРП, фибриноген, леукоцитоза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вишене вредности тироидних хормона уз супримиран ТСХ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иска фиксација Ј13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ерап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мировање, одмор, НСАИЛ, понекад ГК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Хронични (аутоимунски) тиреоидити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утоимунско, орган-специфично запаљење штитасте жлезд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Епидемиологија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: чест поремећај (аутопсијски налаз 20-40%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еутироидних пацијената), 4-10 пута чешћи код же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Клиничка презентација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реоидитис хр. Х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ш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имото, обично праћен хипотиреоидизм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Риедел-ов хронични тиреоидитис, обично праћен еутир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оз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Хронични тиреоидитис у склопу М. Гравес, обично праћен хипертиреоидизм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ијагноза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позитивна  ТПО А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ерапија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игијенско дијететски режи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епарат селе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ТУМОРИ ШТИТАСТЕ ЖЛЕЗ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Бениг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Фоликуларни 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ен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алиг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рекла фоликуларних ћел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апилар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Фол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лар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Лоше диферентова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едиферентован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 (анапластичн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рекла Ц-ћел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едулар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имарног нееп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елног порек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, сарко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екундар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Колико је чест рак штитасте жлезде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рцином штитасте жлезде је најчешћи карцином ендокри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истема и представља око 2% свих карцинома к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људ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рој оболелих је у сталном порасту широм света 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следње три децениј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 наредних пет година у Србиј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ће од тироидног карцинома оболети око 1.200 становн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Жене вишеструко чешће оболевају него мушкарци, а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ије утврђено из ког разлог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Иван Марковић, Рак  штитасте жлезде:Дијагностика и лечење. Београд, 2015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14560" y="-360"/>
            <a:ext cx="93582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ОДРЕЂИВАЊЕ НИВОА ХОРМ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АЗАЛНИ СТАТУ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ИНАМСКИ ТЕСТО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D:\Documents and Settings\Users\Violeta Mladenovic\Desktop\slike DM\SLIKE MEDICINA\fig30.jpg"/>
          <p:cNvPicPr/>
          <p:nvPr/>
        </p:nvPicPr>
        <p:blipFill>
          <a:blip r:embed="rId1"/>
          <a:stretch/>
        </p:blipFill>
        <p:spPr>
          <a:xfrm>
            <a:off x="4919760" y="3983040"/>
            <a:ext cx="4224240" cy="287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Рак штитасте жлезде може дати различите знакове или симптоме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2824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зраслина у врату која понекад расте брз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тицање у вра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пипљиви чворићи на вра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ол у предњем делу врата, који се понекад шир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до ушиј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муклост или промене у гласу које не пролаз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тежано гута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облеми са дисањ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талани кашаљ који није узрокован прехлад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умор у штитастој жлезди који се види на тест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нимањ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јчешће ниједан од ових знакова и симптома није присутан када је болест у почетном стадијум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0" y="306720"/>
            <a:ext cx="889308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ТЕСТОВИ ТИРОИДНЕ ФУНК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468360" y="1814400"/>
            <a:ext cx="8280360" cy="27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7160" indent="-227160">
              <a:lnSpc>
                <a:spcPct val="100000"/>
              </a:lnSpc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ee T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ee T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ерумск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стимулациони те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ХИПЕРФУНКЦИЈА ШТИТАСТЕ ЖЛЕЗ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18960" y="1371600"/>
            <a:ext cx="603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ертиреоидиза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је клиничко с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та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овећане концентрације тироидних хормона у крви настало због њихове повећане продукције у штитастој жлезди и праћено њиховом повећаном активношћу у периферним ткивима, при чему секреција тироидних хормона више није под регулаторном контролом хипоталамо-хипофизног систем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ЕПИДЕМИОЛОГ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Од хипертиреодизма обољева око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0,5%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пулациј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rav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је најчешћи узрок хипертиреодизм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-80%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пацијена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Жене чешће обољевају од мушкараца (одно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:1.5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ик инциденције у старосној доби о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0-40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го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Расна расподела: слична инциденција међу белцима и азијатима, док је нижа међу афроамериканц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7030a0"/>
                </a:solidFill>
                <a:latin typeface="Arial"/>
                <a:ea typeface="Arial"/>
              </a:rPr>
              <a:t>Хиперметаболичко/хиперадренергичко клиничко ста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7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већање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базалног метаболизма у физиолошким услов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245592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акон узимања хра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245592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след промене климатских усл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245592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 зависности од узра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245592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 трудноћ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245592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след физичке актив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245592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и замор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245592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след дејства ендокриних фактора 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245592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след активације симпатикус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079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већање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базалног метаболизма у патолошким услов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245592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иреотоксико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245592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озниц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245592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феохромоцит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245592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четна фаза хипотерм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245592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умор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245592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ијабетесна кетоацидо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245592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рчана инсуфицијен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Т</a:t>
            </a:r>
            <a:r>
              <a:rPr b="1" lang="sr-CS" sz="3200" spc="-1" strike="noStrike">
                <a:solidFill>
                  <a:srgbClr val="7030a0"/>
                </a:solidFill>
                <a:latin typeface="Arial"/>
                <a:ea typeface="Arial"/>
              </a:rPr>
              <a:t>ИРЕО</a:t>
            </a: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ТО</a:t>
            </a:r>
            <a:r>
              <a:rPr b="1" lang="sr-CS" sz="3200" spc="-1" strike="noStrike">
                <a:solidFill>
                  <a:srgbClr val="7030a0"/>
                </a:solidFill>
                <a:latin typeface="Arial"/>
                <a:ea typeface="Arial"/>
              </a:rPr>
              <a:t>КСИКО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тање повећане концентрације тироидних хормона у крви због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овећане продукције у штитастој жлезди ил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ослобађања након разарања штитасте жлезде ил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јатроге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7030a0"/>
                </a:solidFill>
                <a:latin typeface="Arial"/>
                <a:ea typeface="Arial"/>
              </a:rPr>
              <a:t>ХИПЕРТИРЕО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тање повећане концентрације тироидних хормона у крви због њихове повећане продукције у штитастој жлез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Последице тиреотоксикоз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ораст базалног метаболизма (катаболизам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Интолеранција топло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Мршављење упркос добром апети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убфебрилно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в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за, несаница, раздражљиво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ораст броја адренергичких рецептора (повећана осетљивост на катехоламин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Тахикард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резнојава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Дивергентна артеријска хипертенз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Тремор екстремит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Клиничка слика: кож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91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опл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Еритематозна (због повећаног протока крв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ека, сомотаста (смањење кератина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Влажна (неподношење топлоте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ол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ис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(меки и лако ломљиви нокт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ури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у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анка ко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нфилтратив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дермопа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ја (у М. Гравес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Укочен поглед, израз “зурења” и немогућност затварањ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очних капака (последица повећане активнос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импатикусног систем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Клиничка слика: </a:t>
            </a:r>
            <a:r>
              <a:rPr b="1" lang="sr-CS" sz="3200" spc="-1" strike="noStrike">
                <a:solidFill>
                  <a:srgbClr val="7030a0"/>
                </a:solidFill>
                <a:latin typeface="Arial"/>
                <a:ea typeface="Arial"/>
              </a:rPr>
              <a:t>о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Знаци тироидне орбитопатије (у М. Гравес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г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ал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(проптоза очних јабучица)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нфла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ција и задебљање екстраокуларних мишића, орбиталног масног и везивног ткива (чешће код пушач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мањена функција екстраокуларних мишић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плоп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ериорбитал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и и коњунктивалн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ед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Осећај “песка у очима” и бола у оч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орнеалне улцерације (због проптозе и немогућности затварања очних капак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4" descr="D:\Documents and Settings\Users\Violeta Mladenovic\Desktop\STRUMA\images31EIRMSN.jpg"/>
          <p:cNvPicPr/>
          <p:nvPr/>
        </p:nvPicPr>
        <p:blipFill>
          <a:blip r:embed="rId1"/>
          <a:stretch/>
        </p:blipFill>
        <p:spPr>
          <a:xfrm>
            <a:off x="6400800" y="4952880"/>
            <a:ext cx="2505240" cy="16671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D:\Documents and Settings\Users\Violeta Mladenovic\Desktop\STRUMA\imagesBF074QCQ.jpg"/>
          <p:cNvPicPr/>
          <p:nvPr/>
        </p:nvPicPr>
        <p:blipFill>
          <a:blip r:embed="rId2"/>
          <a:stretch/>
        </p:blipFill>
        <p:spPr>
          <a:xfrm>
            <a:off x="4267080" y="4952880"/>
            <a:ext cx="198144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Клиничка слика: </a:t>
            </a:r>
            <a:r>
              <a:rPr b="1" lang="sr-CS" sz="3200" spc="-1" strike="noStrike">
                <a:solidFill>
                  <a:srgbClr val="7030a0"/>
                </a:solidFill>
                <a:latin typeface="Arial"/>
                <a:ea typeface="Arial"/>
              </a:rPr>
              <a:t>КВС и Р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991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а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кард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истолн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ХТ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са повећаним пулсним притиско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раст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раста потреб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 кисеоником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И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а повећаним минутним волумен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(ко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-20% п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цијената, најчешће старијих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тријални поремећаји рит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ХЛК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 кардиомиопат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испнеја у миру и у напор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раст утрошка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i="1" lang="sr-Latn-C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и производњ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i="1" lang="sr-Latn-C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ем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ер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п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лабост респираторних мишић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мањен капацитет физичке издржљив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Опструкција трахе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Егзацербација бронхијалне астм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раст пулмоналног притис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7030a0"/>
                </a:solidFill>
                <a:latin typeface="Arial"/>
                <a:ea typeface="Arial"/>
              </a:rPr>
              <a:t>БАЗАЛНИ СТАТУ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150920"/>
            <a:ext cx="9144000" cy="54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Секреција хормона није равномерна током времена, већ постоје одређење правилности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- об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расци лучења хормо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Пулсатилност у секрецији (инсулин, </a:t>
            </a:r>
            <a:r>
              <a:rPr b="0" i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LH, FSH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Рит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чнос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 у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екрeц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иј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e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ни ритам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PRL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, Кортизoл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Месeчни 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там (eстроген, прогестeroн, FSH, LH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Годишњ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 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там (</a:t>
            </a:r>
            <a:r>
              <a:rPr b="0" i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TSH, T4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Секрeција у посeб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м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тaњ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има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 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стрес, трудноћа, пубертет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br>
              <a:rPr sz="2800"/>
            </a:br>
            <a:r>
              <a:rPr b="1" lang="sr-Latn-CS" sz="2800" spc="-1" strike="noStrike">
                <a:solidFill>
                  <a:srgbClr val="7030a0"/>
                </a:solidFill>
                <a:latin typeface="Arial"/>
                <a:ea typeface="Arial"/>
              </a:rPr>
              <a:t>Клиничка слика: </a:t>
            </a:r>
            <a:r>
              <a:rPr b="1" lang="sr-CS" sz="2800" spc="-1" strike="noStrike">
                <a:solidFill>
                  <a:srgbClr val="7030a0"/>
                </a:solidFill>
                <a:latin typeface="Arial"/>
                <a:ea typeface="Arial"/>
              </a:rPr>
              <a:t>ГИ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991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ршављење (због повећане калоригенезе) уз непромењен или појачан апети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ердеф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а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ал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орп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ција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стеаторе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ер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фаг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од млађих пацијената може довести до краткотрајног пораста телесне ма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нор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с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(обично код старијих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г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7030a0"/>
                </a:solidFill>
                <a:latin typeface="Arial"/>
                <a:ea typeface="Arial"/>
              </a:rPr>
              <a:t>Клиничка слика: ендокрини сист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осетљивост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-ћелија панкреаса на гликоз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екреција инсул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нтагонизам према периферним ефектима инсул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Развој интолеранције гликоз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С</a:t>
            </a: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келетни систем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600" y="1722240"/>
            <a:ext cx="86104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Реапсорпција костију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порозност кортикалне к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↓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волумен трабекуларне кости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АЛП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остеобла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нхибирана секрециј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TH</a:t>
            </a:r>
            <a:r>
              <a:rPr b="0" i="1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↓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апсорпција и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екскреција калцију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стеопор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за и патолошке фрактур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M. Graves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је удружена и с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ироидна акропатиј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 и з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дебљање ноктиј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   </a:t>
            </a: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Клиничка слика: урогенитални систем</a:t>
            </a:r>
            <a:br>
              <a:rPr sz="32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Чешће урини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њ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е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ур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од деце честа енуреза</a:t>
            </a:r>
            <a:br>
              <a:rPr sz="3200"/>
            </a:b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193480"/>
            <a:ext cx="403848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Calibri"/>
              </a:rPr>
              <a:t>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B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естрадио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↓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слободн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естрадио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Редукован пик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средином м 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Олигоменореа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аменоре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новулатор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инфертилит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48320" y="2149560"/>
            <a:ext cx="403848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d99694"/>
                </a:solidFill>
                <a:latin typeface="Calibri"/>
              </a:rPr>
              <a:t>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B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укуп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тестостер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↓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слобод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тестостер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↑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естрадио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inecomast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Смање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либид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Еректилна дисфункц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Поремећен спермогр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Не</a:t>
            </a: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уромускуларни систем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ремор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(испружене руке и језик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еррефлексија (тетивни рефлекс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сихичке промене: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ерактивност, емоционална лабилност, анксиозност, смањена концентрација, несаниц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ишићна слабост: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оксимална мишићна слабост 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0%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ацијената, смањена мишићна маса и снага (нормализују се тек након 6 месец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yasthenia gravis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(у склопу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M. Graves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ДИЈАГНО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оверити да ли има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имптома и знак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ов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ерметаболичког клиничког ста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егледом тиреоидеје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овери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орфолошке карактеристике (дифузна и/или нодозна струма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а ли има специфичних манифестација М. Гравес 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а ли има елемената за тиреоидити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Лабораторијска дијагност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Биоху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синдром запаљења (СЕ, ККС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фиб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. и ЦРП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иреоидни стату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орфолошка дијагностик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(ултразвук и сцинтиграфиј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Хигијенско-дијететски режи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збегавање теже физичке активности (до увођења у ремисију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естанак пушењ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еизлагање Сунц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збегавање боравка у топлим, влажним просторија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Редукција симптом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Бета-блокатори (у случају да су контраиндиковани – антагонисти калцијум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едатив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мањење секреције тиреоидних хормон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иреосупресивни леков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ерапијска примена радио Ј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Хируршка интервен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ТИРЕОСУПРЕСИ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Увођење терап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акон потврде да се ради о хипертиреоз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ницијалне дозе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МИ 20-40 мг (1-2 пута дневн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ТУ 300-600 мг (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4 пута дневн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аћење ефеката терап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ва контрола за 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8 недеља, првих месеци ослонити се н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4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(Т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H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је супримиран у том периоду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акнадне контроле на 3 месеца, пратит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4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H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Укупно трајање терапије 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8 месец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дешавање терап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акон постизања ремисије (очекује се у прва 3 месеца терапије) редуковати дозу на ниво одржавањ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М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2.5-15 мг (једном 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евн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Т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100-150мг (два до 3 пута дневн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7030a0"/>
                </a:solidFill>
                <a:latin typeface="Arial"/>
                <a:ea typeface="Arial"/>
              </a:rPr>
              <a:t>Компликације терапиј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оксични хепатитис (јавља се само током терапије ПТУ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гранулоцитоза (може га изазвати и ММИ и ПТУ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Број неутрофила мањи од 0.5 x 10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/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Инциденција је ок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5%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(чешћа са ПТУ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Реверзибилна је уз примену супортативне терапиј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Може настати нагл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Дискутабилно је да ли рутинска контрола ККС може бити од користи (тада се саветује да се контролише на 2 недеље у првом месецу терапије, затим једном месечно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Најважнији савет: у случају развоја изненадне фебрилности и гушобоље одмах проверити КК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533520" y="-360"/>
            <a:ext cx="9677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  <a:ea typeface="Arial"/>
              </a:rPr>
              <a:t>         </a:t>
            </a:r>
            <a:r>
              <a:rPr b="1" lang="sr-CS" sz="3200" spc="-1" strike="noStrike">
                <a:solidFill>
                  <a:srgbClr val="7030a0"/>
                </a:solidFill>
                <a:latin typeface="Arial"/>
                <a:ea typeface="Arial"/>
              </a:rPr>
              <a:t>Т</a:t>
            </a:r>
            <a:r>
              <a:rPr b="1" lang="sr-CS" sz="2800" spc="-1" strike="noStrike">
                <a:solidFill>
                  <a:srgbClr val="7030a0"/>
                </a:solidFill>
                <a:latin typeface="Arial"/>
                <a:ea typeface="Arial"/>
              </a:rPr>
              <a:t>иреотоксична криза</a:t>
            </a:r>
            <a:r>
              <a:rPr b="1" lang="sl-SI" sz="2800" spc="-1" strike="noStrike">
                <a:solidFill>
                  <a:srgbClr val="7030a0"/>
                </a:solidFill>
                <a:latin typeface="Arial"/>
                <a:ea typeface="Arial"/>
              </a:rPr>
              <a:t> (“тиреотоксична олуја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991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о живот опасна егзацербација хипертиреоидизма (фебрилност, делиријум, мишићни грчеви, повраћање, дијареја, жутица, ком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Нелечена или непрепозната хипертирео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кутна болест (ЦВИ, АИМ, инфекција, траума, ДК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По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ж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ивот опасна, изненадна хиперактивност тироиде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редстављ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 завршну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фазу континуума: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 „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ертирео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идизам-тиреотоксикоза-тиреотоксична олуја-тироидна олу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ражава дод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тн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адренергичк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хиперактивност, и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ндуковану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еспецифичн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и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стрес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, у амбијенту н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лече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или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недовољно леченог хиперитироидиз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огноз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Раније је морталитет код нелечених пацијената износи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%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,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0%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код лече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пре појаве бета блокато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. Актуелно, морталитет 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&lt;5%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код лечених пацијен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0" y="306360"/>
            <a:ext cx="91440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  <a:ea typeface="Arial"/>
              </a:rPr>
              <a:t>Тиреотоксична криза-преципитишући факт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304920" y="1676520"/>
            <a:ext cx="883908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нфекција, упала плу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лућна емболи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рођај/токсем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рау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пер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рург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ерапиј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Ј 13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Ј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бустављање антитироидних ле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ДИНАМСКИ ТЕСТО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67840" y="1600200"/>
            <a:ext cx="8418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тимулацијски тестов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Када је суспек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 хипофункциј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Одређивање нивоа лезије (примарни, секундарни терцијалн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упресијски тестов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Када је суспек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 хиперфункциј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Одређивање нивоа лезије (примарни, секундарни терцијалн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0" y="306360"/>
            <a:ext cx="91440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  <a:ea typeface="Arial"/>
              </a:rPr>
              <a:t>Тиреотоксична криза - клиничка презент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228600" y="1219320"/>
            <a:ext cx="8915400" cy="48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7160" indent="-2271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грозн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аруше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ментални статус (узнемиреност конфузија, кома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ахикард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враћање/дијаре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+/- жут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+/- струм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   +/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opthal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7030a0"/>
                </a:solidFill>
                <a:latin typeface="Arial"/>
                <a:ea typeface="Arial"/>
              </a:rPr>
              <a:t>ЦНС манифест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а повећањем тежине олује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еркинез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неми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Емоционал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ест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билн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збуњен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психо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апат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поспан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к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о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КАРДИОВАСКУЛАРНЕ МАНИФЕСТ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већана срчана фреквенца (синусна тахикардија или атријална фибрилација), Повећана раздражљивост (АВ блок 1, степе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Aft>
                <a:spcPts val="374"/>
              </a:spcAft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0" y="222480"/>
            <a:ext cx="914400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ТЕРАП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380880" y="1371600"/>
            <a:ext cx="8382240" cy="41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9280" indent="-179280"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Ј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исок проток O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рзо хлађење  (ако је висока температур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 +/- IV течност код дехидрат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ета блокатор I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/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gox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локатор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канала (АФ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/- диуретик за 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крити и лечити преципитишући узр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ydrocortis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00 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TU 600-900 mg P.O или NG, затим 200-300 mg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/6-8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Јод (&gt; 1h након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T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:  или  20 g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ХИПОТИРЕОИДИЗАМ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915400" cy="48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Хипотироидизам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 је стање настало као последица недостатка ефеката тироидних хормона, било због њихове смањене продукције или резистенције периферних ткива на њи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Микседем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 (раније синоним за хипотиреозу) данас се односи на промене коже и поткожног ткива које се виђају код пацијената са тешким обликом хипотиреоз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ЕПИДЕМИОЛОГ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ДУЛТНА ПОПУЛА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Клинички манифестни обли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Око 2% же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Око 0,1-0,2% мушкарц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убклинички обли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Око 9,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НЕОНАТУС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1 на 3500 новорођени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7030a0"/>
                </a:solidFill>
                <a:latin typeface="Arial"/>
                <a:ea typeface="Arial"/>
              </a:rPr>
              <a:t>ЕТИОЛОШКА ПОДЕ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КОНГЕНИТАЛ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плазија, хипоплазија и ектопија штитасте жлезд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Дефекти у биосинтези и/или дејству хормо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ТЕЧЕ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утоимунски тиреоидити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Тежак дефицит јода у исхра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блација тиреоидеје (хируршке интервенције, радијациј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МЕДИКАМЕНТОЗ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Јод, ПТУ, ММИ, К-перхлорат, Тиоцијанат, Литију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ФАКТОРИ РИЗИКА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об (старији од 50), пол: женски, гојазност, Операција тироидее, Зрачење вратне рег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КЛИНИЧКА ПРЕЗЕНТ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СИМПТОМАТСКИ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 (и до 80% пацијенат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ИВА ЗОНА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Непотпуна клиничка сл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Неспецифична симптоматолог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арадок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лна симптоматологија (несанаица, појачана раздражљивост, хиперактивнос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РАЗВИЈЕНА КЛИНИЧКА СЛ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КЛИНИЧКА ПРЕЗЕНТ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91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ОПШТИ СИМПТОМИ И ЗНАЦ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Зимогрожљив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Ум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Добијање у ТМ уз смањење апети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хипотерм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НЕРВ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И СИСТЕ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летарг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оремећаји памће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оремећаји паж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ромена каракте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омнолен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Церебеларна атакс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Оштећење чула слуха и уку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сихопатолошки поремећај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НЕУРОМИШИЋНИ СИСТ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лаб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Мишићни грчев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Болови у зглобов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ГИТ: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Мучни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Затв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Метеориза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Увећање јези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сците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Успорена перисталт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КАРДИОРЕСПИРАТОРНИ СИСТ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Интолеранција напо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Гуше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ромукл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Брадикард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Умерена хипертенз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ерикардна ефуз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леурална ефуз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КОЖ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ува, хладна, перутава кож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Надутост л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Губитак ко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Крти нок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Еластични едеми лица, руку и подколен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ериорбитални еде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Хладна кож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Бледо-жута кожа (анемија+хиперкаротинемија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уве аксил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ромене кос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C:\Users\Violeta\Desktop\images.jpg"/>
          <p:cNvPicPr/>
          <p:nvPr/>
        </p:nvPicPr>
        <p:blipFill>
          <a:blip r:embed="rId1"/>
          <a:stretch/>
        </p:blipFill>
        <p:spPr>
          <a:xfrm>
            <a:off x="1981080" y="0"/>
            <a:ext cx="4524480" cy="34131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C:\Users\Violeta\Desktop\Hypothyroidism.jpg"/>
          <p:cNvPicPr/>
          <p:nvPr/>
        </p:nvPicPr>
        <p:blipFill>
          <a:blip r:embed="rId2"/>
          <a:stretch/>
        </p:blipFill>
        <p:spPr>
          <a:xfrm>
            <a:off x="4267080" y="3413160"/>
            <a:ext cx="4876920" cy="33908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C:\Users\Violeta\Desktop\images0LVWE7RC.jpg"/>
          <p:cNvPicPr/>
          <p:nvPr/>
        </p:nvPicPr>
        <p:blipFill>
          <a:blip r:embed="rId3"/>
          <a:stretch/>
        </p:blipFill>
        <p:spPr>
          <a:xfrm>
            <a:off x="0" y="3413160"/>
            <a:ext cx="4243320" cy="33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МИКСЕДЕМСКА КО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Завршни стадијум тешког, дуготрајног и нелеченог хипотиреоидиз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реципитирајући фактор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Излагање хладноћ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Инфек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овред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нестетици и лекови са депресорним дејством на ЦН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имптоми и знац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Хипотермија (до 23</a:t>
            </a:r>
            <a:r>
              <a:rPr b="0" lang="sl-SI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Ц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Микседем, брадикардија, хипотензија, арефлекс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лвеоларна хиповентилација, ретенциј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дилуциона хипонатрием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сихички поремећаји: од агитираности (“микседемско лудило”) до ком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0" y="238320"/>
            <a:ext cx="914400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УРГЕНТНА ТЕРАП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304920" y="1295280"/>
            <a:ext cx="8610480" cy="27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50840" indent="-15084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Ј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840" indent="-150840">
              <a:lnSpc>
                <a:spcPct val="100000"/>
              </a:lnSpc>
              <a:spcAft>
                <a:spcPts val="374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ubation / venti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840" indent="-15084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оверити гликемију, +/- IV D50  +/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alox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840" indent="-15084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ydrocortis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00-250 mg 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840" indent="-15084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поро загрев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840" indent="-15084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yrox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T4) 500 mcg НГ или ПО, затим 50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c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840" indent="-15084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ажљива IV надокнада течности (С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840" indent="-150840"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атит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треба да опадне за 24h и нормализује за 7 д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Аденохипофиза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084320"/>
            <a:ext cx="9144000" cy="50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з аденохипофизе се ослобађају хормони под утицајем 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ослобађајућ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инхиби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ајућ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фактора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ормо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оје ствара хипопаталму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тала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ус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фактори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ормо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е стварају 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еуросе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етор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и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ћелија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 зати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ранспор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у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оталамо-хипофизним портним систем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Хормони аденохипофизе делују на друге ендокрине системе и зато се називају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роп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и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ормо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Хумани хормон растењ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G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соматотропи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оид-стимул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ишућ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хормон 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S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т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ротропи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Фо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куло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стимул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ирајућ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хормон 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S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Лутеинизи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рајућ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хормон 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Прола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тин 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: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Доводи до секреције млека из млечних жлез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Адрено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орти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отроп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хормон 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орти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отропин: Стимул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иш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секрецију гликокортикоида у кори надбубрег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Меланоц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т-стимул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ишућ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Хормон 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S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pituitary"/>
          <p:cNvPicPr/>
          <p:nvPr/>
        </p:nvPicPr>
        <p:blipFill>
          <a:blip r:embed="rId1"/>
          <a:stretch/>
        </p:blipFill>
        <p:spPr>
          <a:xfrm>
            <a:off x="7196040" y="3390840"/>
            <a:ext cx="1354320" cy="165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ДИЈАГНО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6320" y="13716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фТ4 и ТС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Маркери аутоимунског процеса (</a:t>
            </a:r>
            <a:r>
              <a:rPr b="0" i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нтиТ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i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О А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Ултразвучни преглед штитасте жлезд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Допунска дијагностик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нализе крви (ККС, гликемија, липидограм, биохуморални синдром некрозе миоцита, азотне материје у крв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Тестирање кардиоваскуларне функције (ЕКГ, Ртг пулмо, Ултразвучни преглед срц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ДИФЕРЕНЦИЈАЛНА ДИЈАГНО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Хронична бубрежна инсуфицијен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сихијатријски поремећаји у старијих особ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ернициозна анемија у старијих особ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Конгестивна срчана инсуфицијен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ЛЕК ИЗБ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-360" y="12193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L-thyroxi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Т4 - синте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чки лeвотирoксин) је лeк избора za лечeњe и примарног и секундарног (“централног“) хипoтиреоидиз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псорбује се до 80% унете доз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Главно место апсорпције је дуоденум (20%), горњи (40%) и доњи (40%) јејуну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исуство хране може знатно да умањи апсорпциј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Лек се уводи постепе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ПАРАТИРЕОИДНЕ ЖЛЕЗ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var Sandström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Швеђанин, студент медици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ткрио параштитасте жлезд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8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оследњи велики орган који је идентификован код љу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дела болест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ар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штита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жлез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ерпаратиреоид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опаратиреоид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ТХ  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кретују  главне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лије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параштитасте жлезде као протеин сачињен од 84 аминокисели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5" descr="Picture of the Parathyroid Glands"/>
          <p:cNvPicPr/>
          <p:nvPr/>
        </p:nvPicPr>
        <p:blipFill>
          <a:blip r:embed="rId1"/>
          <a:stretch/>
        </p:blipFill>
        <p:spPr>
          <a:xfrm>
            <a:off x="6753240" y="3962520"/>
            <a:ext cx="2390760" cy="26668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" descr="parathyroidmolecule"/>
          <p:cNvPicPr/>
          <p:nvPr/>
        </p:nvPicPr>
        <p:blipFill>
          <a:blip r:embed="rId2"/>
          <a:stretch/>
        </p:blipFill>
        <p:spPr>
          <a:xfrm>
            <a:off x="503280" y="4486320"/>
            <a:ext cx="2833560" cy="180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Параштитасте жлез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  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Хиперпаратиреоидиз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  <a:ea typeface="Arial"/>
              </a:rPr>
              <a:t>Примарни: аденом, карцином, хиперплазија ПТЖ (хиперпродукција ПТХ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  <a:ea typeface="Arial"/>
              </a:rPr>
              <a:t>Секундарни: хронична хипоклациемија (физиолошки одговор - пораст продукције ПТХ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  <a:ea typeface="Arial"/>
              </a:rPr>
              <a:t>Терцијалн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  <a:ea typeface="Arial"/>
              </a:rPr>
              <a:t>Ектопична продукција (ПТХ, ПТХрП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Хипопаратиреоидиз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римарн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сеудохипопаратиреоидиза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(резистенција периферних ткива на ПТХ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сеудопсеудохипопаратиреоидиз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5" descr="F:\slike predavanja\5.png"/>
          <p:cNvPicPr/>
          <p:nvPr/>
        </p:nvPicPr>
        <p:blipFill>
          <a:blip r:embed="rId1"/>
          <a:stretch/>
        </p:blipFill>
        <p:spPr>
          <a:xfrm>
            <a:off x="6400800" y="3505320"/>
            <a:ext cx="263376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Примарни хиперпаратиреоидиз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3567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ХПТ је стање хроничне хиперкалциемије која је резултат повећаног и неконтролисаног лучења ПТХ због хиперфункције једне или више ПТЖ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Етиологија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: аденом (81%), карцином (4%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хиперплазија ПТЖ  (спорадично или у оквиру МЕН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Биохемијске промене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: хиперкалциемија, хипофосфатемија, хиперкалциурија, снижење </a:t>
            </a:r>
            <a:r>
              <a:rPr b="0" i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P</a:t>
            </a:r>
            <a:r>
              <a:rPr b="0" i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О4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, пораст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</a:t>
            </a:r>
            <a:r>
              <a:rPr b="0" i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i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, дехидратација, хиперхлоремијска ацидоза (повећано лучењ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CO3-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 уз задржавањ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i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+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Неуромускуларни поремећаји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: мишићна слабост, анорексија, повраћање, опстипација, скраћен </a:t>
            </a:r>
            <a:r>
              <a:rPr b="0" i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QТ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 интерва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сихички поремећаји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: емоционална нестабилност, депресија, психоз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Бубрежни поремећаји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: смањена концентрациона способност (полиурија, никтурија), уролитија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Коштани систем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: повећана реапсорпција костиј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Примарни хиперпаратиреоидиз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линичка слика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80%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је асимптоматс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Општи симптоми и симптоми ЦНС-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мор, депресија, конфузност, заборавност, емоционална нестабилност, сомноленциј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ГИ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Губитак апетита, мршављење, мука, повраћање, улкусна болест, панкреатитис, опстипа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УГ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Депозити калцијума и уролитијаза (60-70% пацијенат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олиурија, полидипсиј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алкулоза уротра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Опструкција уротра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КВ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Артеријска хипертенз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краћивањ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интервал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ЕК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Остепор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овећана активност остеоклас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п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овећан метаболизам кости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р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едукција густине костиј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Примарни хиперпаратиреоидиз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-182880" y="1066680"/>
            <a:ext cx="9326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гно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овишене вредности серумског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Т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Хиперкалцием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низак или ниско-нормалан фосфат у серуму (смањена реапсорпција у проксималним тубулима), повишен клиренс фосфата, хипомагнеземија, хиперхлоремија, метаболичка ацидо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овишен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,25(ОH)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Морфолошка испитива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лтразвучни преглед вр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цинтиграфија ПТЖ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9м-тех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м сестамиб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Лече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Хируршка интервен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Хиперкалцием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Остеопороза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Т-sco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 -2.5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алкулоза бубре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Медикаментни третма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Надокнада волум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лакашвање калциурез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диуретици Хенлеове петљ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би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на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мањена реапсорпција кости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к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алцитони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ормонска терап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ц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итостатиц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030a0"/>
                </a:solidFill>
                <a:latin typeface="Arial"/>
              </a:rPr>
              <a:t>Секундарни хиперпаратиреоидиз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ХПТ је хиперфункција свих ПТЖ због хроничне хипокалциемије (ПТЖ су примарно нормалне, али временом може доћи до њихове хиперплазије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Етиолог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Пораст фосфата у акутној или хроничној инсуфицијенцији бубрег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ГФР&lt;40мл/мин)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Дефици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т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ми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Д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или резистенција ткива на Витамин Д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Смањење апсорпције калцијума у ГИТ-у (малапсорптивни синдроми)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Хипомагнеземиј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Лекови: лаксативи, фенитоин, фенобарбитон, холестирамин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псеудохипопаратиреоидиз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Клиничка слика: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алцификати у меким ткивим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враб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ромене на костима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нал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ео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р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фија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теомалац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ниски калцијум и витами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Д)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steitis fibrosa cystic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овише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ТХ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Лечење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редства која везују фосфат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упституција калцијумом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итамин Д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и његови аналози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acalc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nsipar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90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7030a0"/>
                </a:solidFill>
                <a:latin typeface="Arial"/>
              </a:rPr>
              <a:t>Терцијални</a:t>
            </a: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sr-Latn-CS" sz="3600" spc="-1" strike="noStrike">
                <a:solidFill>
                  <a:srgbClr val="7030a0"/>
                </a:solidFill>
                <a:latin typeface="Arial"/>
              </a:rPr>
              <a:t>хиперпаратиреоидиза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Терцијалн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П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настаје токо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ХПТ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и у основи ј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ХПТ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оји више не реагује на примену лек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тална стимулација хипокалциемијом доводи до хиперплазије ПТЖ, а временом на том терену може да се развије аутономни аден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Најчешће се развија  након трансплантације бубрега када хипертрофисане ПТЖ настављају са појачаном и неконтролисаном секрецијо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ТХ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ромена “тачке избора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Клиничка сли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ао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ХП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уз појачање болова у костима и свраба, те појаву слабости и лаког замара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: лабораторијски пораст калцијума уз ↑фосфа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: као и секундарни облик, али може бити индикована и хируршка интервенција (одстрањење аденоматозно измењених ПТЖ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r-Latn-CS" sz="3200" spc="-1" strike="noStrike">
                <a:solidFill>
                  <a:srgbClr val="7030a0"/>
                </a:solidFill>
                <a:latin typeface="Arial"/>
                <a:ea typeface="Arial"/>
              </a:rPr>
              <a:t>Неурохипофиза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963720"/>
            <a:ext cx="9144000" cy="56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е синтетише хормо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Чува и ослобађа хормоне које ствара хипоталаму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ранспортују пут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талам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физног тра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с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оцин (ОТ)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оком и након порођаја остварује утицај на утерус и дојк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јачава контракцију глатких мишићних ћелија у утерус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тимул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ш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стискивање млека из млечних жлез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нтидиурeт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к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хормон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вазопреси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мањује количину дефинитивног урина тако што омогућава да бубрези враћају већу количину воде у крв из примарног урин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мањује губитак воде знојењем 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оводи до констрикције артериола чиме узрокује пораст крвног притиск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в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пресин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Примарни хипопаратиреоидиз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тање хроничне хипокалциемије и хиперфосфатемије због смањене активности ПТХ због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мањене синтезе ПТ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интеза биолошки неактивног ПТ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Изостанак одговора периферног ткива на ПТ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Примарни хипопаратиреоидиз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0" y="1050480"/>
            <a:ext cx="9144000" cy="52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Биохемијске промене: хипокалциемија, хиперфосфатемија, порас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ЦПК и АЛ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Неуромускуларни поремећаји: повећана неуромишићна раздражљивост (од парестезија до грчева мишића), продужен QТ интерва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Калцификације меких ткива (интракранијалне, очно сочив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овећана неуроми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ћна раздражљиво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Манифестна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рестезије лица у пределу усана 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рстију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тоничне и болне контракције (“акушерска шака”, карпопедални спазам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грч дијафрагме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сеудо-епилептични напади (очувана свест), настаје спонтано или провоцирано свакодневним активностима (ходање, рад, хипервенти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ција, стања алкалоз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Латентна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vost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ов зн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usee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ов зна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80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http://www.sistemanervoso.com/images/neurologia_clinica_aula2008/resumo_geral05.jpg"/>
          <p:cNvPicPr/>
          <p:nvPr/>
        </p:nvPicPr>
        <p:blipFill>
          <a:blip r:embed="rId1"/>
          <a:stretch/>
        </p:blipFill>
        <p:spPr>
          <a:xfrm>
            <a:off x="5791320" y="1219320"/>
            <a:ext cx="2971800" cy="35431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8" descr="http://www.nejm.org/na102/home/ACS/publisher/mms/journals/content/nejm/2009/nejm_2009.360.issue-18/nejmicm074227/production/images/large/nejmicm074227_f1.jpeg"/>
          <p:cNvPicPr/>
          <p:nvPr/>
        </p:nvPicPr>
        <p:blipFill>
          <a:blip r:embed="rId2"/>
          <a:stretch/>
        </p:blipFill>
        <p:spPr>
          <a:xfrm>
            <a:off x="228600" y="1066680"/>
            <a:ext cx="5532480" cy="281952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“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АКУШЕРСКА ШАКА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Picture 14" descr="http://1.bp.blogspot.com/_Ce2QgABcdRA/S_ioKs7wmsI/AAAAAAAAAJg/xvDre7lOl7s/s1600/carpopedal+spasm.jpg"/>
          <p:cNvPicPr/>
          <p:nvPr/>
        </p:nvPicPr>
        <p:blipFill>
          <a:blip r:embed="rId3"/>
          <a:stretch/>
        </p:blipFill>
        <p:spPr>
          <a:xfrm>
            <a:off x="268200" y="3809880"/>
            <a:ext cx="5370480" cy="28195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6" descr="http://www.websters-online-dictionary.org/images/wiki/wikipedia/commons/thumb/2/23/CBell1809.jpg/300px-CBell1809.jpg"/>
          <p:cNvPicPr/>
          <p:nvPr/>
        </p:nvPicPr>
        <p:blipFill>
          <a:blip r:embed="rId4"/>
          <a:stretch/>
        </p:blipFill>
        <p:spPr>
          <a:xfrm>
            <a:off x="6019920" y="4800600"/>
            <a:ext cx="2857320" cy="18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Chvostek</a:t>
            </a: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-ов зна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vostek-o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zna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познат и кao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iss-o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zna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један од з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кoвa хипo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лцe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ч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 т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нијe, a рeф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ек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јe абн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рмалн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к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j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у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т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лaц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у фацијал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г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ер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antišek Chvoste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је чeшко-аустриj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л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ји je oп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o oвaj знaк 1876. (независно oд њeгa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athan Weis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883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4" descr="F:\slike predavanja\images0AAI6E5I.jpg"/>
          <p:cNvPicPr/>
          <p:nvPr/>
        </p:nvPicPr>
        <p:blipFill>
          <a:blip r:embed="rId1"/>
          <a:stretch/>
        </p:blipFill>
        <p:spPr>
          <a:xfrm>
            <a:off x="6400800" y="42670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F:\slike predavanja\imagesRQ8J3U62.jpg"/>
          <p:cNvPicPr/>
          <p:nvPr/>
        </p:nvPicPr>
        <p:blipFill>
          <a:blip r:embed="rId2"/>
          <a:stretch/>
        </p:blipFill>
        <p:spPr>
          <a:xfrm>
            <a:off x="3124080" y="4248000"/>
            <a:ext cx="3000600" cy="22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6" descr="http://www.sistemanervoso.com/images/neurologia_clinica_aula2008/resumo_geral07.jpg"/>
          <p:cNvPicPr/>
          <p:nvPr/>
        </p:nvPicPr>
        <p:blipFill>
          <a:blip r:embed="rId1"/>
          <a:stretch/>
        </p:blipFill>
        <p:spPr>
          <a:xfrm>
            <a:off x="4829040" y="1362240"/>
            <a:ext cx="3705480" cy="26002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0" descr="Chvostek’s Sign in a Patient with Gitelman’s Syndrome."/>
          <p:cNvPicPr/>
          <p:nvPr/>
        </p:nvPicPr>
        <p:blipFill>
          <a:blip r:embed="rId2"/>
          <a:stretch/>
        </p:blipFill>
        <p:spPr>
          <a:xfrm>
            <a:off x="5105520" y="4154400"/>
            <a:ext cx="3429000" cy="2475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2" descr="http://www.etsu.edu/com/medicalmystery/pictures/Chvostek_s_sign.jpg"/>
          <p:cNvPicPr/>
          <p:nvPr/>
        </p:nvPicPr>
        <p:blipFill>
          <a:blip r:embed="rId3"/>
          <a:stretch/>
        </p:blipFill>
        <p:spPr>
          <a:xfrm>
            <a:off x="380880" y="1828800"/>
            <a:ext cx="4648320" cy="3952800"/>
          </a:xfrm>
          <a:prstGeom prst="rect">
            <a:avLst/>
          </a:prstGeom>
          <a:ln w="0">
            <a:noFill/>
          </a:ln>
        </p:spPr>
      </p:pic>
      <p:sp>
        <p:nvSpPr>
          <p:cNvPr id="300" name="TextBox 10"/>
          <p:cNvSpPr/>
          <p:nvPr/>
        </p:nvSpPr>
        <p:spPr>
          <a:xfrm>
            <a:off x="3657600" y="3581280"/>
            <a:ext cx="15238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 Black"/>
              </a:rPr>
              <a:t>Ударац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 Black"/>
              </a:rPr>
              <a:t>прс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Chvostek</a:t>
            </a:r>
            <a:r>
              <a:rPr b="1" lang="sl-SI" sz="3200" spc="-1" strike="noStrike">
                <a:solidFill>
                  <a:srgbClr val="7030a0"/>
                </a:solidFill>
                <a:latin typeface="Arial"/>
                <a:ea typeface="Arial"/>
              </a:rPr>
              <a:t>-ов зна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ТROUSSE-ОВ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 ЗНА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2" descr="http://www.nejm.org/na102/home/ACS/publisher/mms/journals/content/nejm/2000/nejm_2000.343.issue-25/nejm200012213432506/production/images/large/nejm200012213432506_f1.jpeg"/>
          <p:cNvPicPr/>
          <p:nvPr/>
        </p:nvPicPr>
        <p:blipFill>
          <a:blip r:embed="rId1"/>
          <a:stretch/>
        </p:blipFill>
        <p:spPr>
          <a:xfrm>
            <a:off x="88920" y="1523880"/>
            <a:ext cx="905508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ДИСФУНКЦИЈА АДЕНОХИПОФИ</a:t>
            </a:r>
            <a:r>
              <a:rPr b="1" lang="sr-Latn-CS" sz="3200" spc="-1" strike="noStrike">
                <a:solidFill>
                  <a:srgbClr val="7030a0"/>
                </a:solidFill>
                <a:latin typeface="Arial"/>
              </a:rPr>
              <a:t>З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Е</a:t>
            </a:r>
            <a:br>
              <a:rPr sz="3200"/>
            </a:br>
            <a:r>
              <a:rPr b="1" lang="sr-Latn-CS" sz="3200" spc="-1" strike="noStrike">
                <a:solidFill>
                  <a:srgbClr val="7030a0"/>
                </a:solidFill>
                <a:latin typeface="Arial"/>
              </a:rPr>
              <a:t>клиничка презент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1566720"/>
            <a:ext cx="9144000" cy="49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ХИПОФУНК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GH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ST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nismus pituita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FS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L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pogonadismus s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TS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pothyreosis s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CT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pocorticismus se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лакти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poprolactinemi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Aleksandar</dc:creator>
  <dc:description/>
  <dc:language>en-US</dc:language>
  <cp:lastModifiedBy>Marina</cp:lastModifiedBy>
  <cp:lastPrinted>2009-04-22T19:24:48Z</cp:lastPrinted>
  <dcterms:modified xsi:type="dcterms:W3CDTF">2020-10-01T18:50:24Z</dcterms:modified>
  <cp:revision>29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